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272-5B05-485D-936C-4540070C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BA7-40C7-49F3-825C-939BBD03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A8F-80F4-4655-B21F-DC52BE13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1E4-AE6C-4EFC-A1D7-997A0268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029-8E86-4899-A2A6-002DB5E1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002-8E8D-4D7C-85BB-C18D2438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4B7-73C5-4376-B1D1-03E67C0D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89D-19CC-4348-9507-78CC1E45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DF6-1002-4B63-911F-003DCE5D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D56-7BC1-4961-B100-8D06845C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FEC-FE28-4B22-AC3F-C6440AA7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5A7-CB16-4393-B2ED-1376752F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35D9-4098-4176-8A23-3200EDB03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-</cp:lastModifiedBy>
  <dcterms:modified xsi:type="dcterms:W3CDTF">2013-04-29T20:56:43Z</dcterms:modified>
  <cp:revision>10</cp:revision>
  <dc:subject/>
  <dc:title>Слайд 1</dc:title>
</cp:coreProperties>
</file>